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5EDDF-28B6-456F-A3C7-3246B7400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480E6-0EFA-4472-8D2C-AF93ED7A9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FB4BE-6BF5-43E3-BDFF-B461D6E4C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20BD8-24D9-4213-A570-FDFD02F61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976C7-90F3-4DF9-B45C-0B54CBC65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5CE8E-780F-4BB5-8DAE-666D08D7E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368C5-2C99-4FE8-A419-FB0D15263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77B1D-573D-46AC-8651-9D796A69D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E5B08-BCA6-416C-81A1-E930C1367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ADEA2-C0D1-4E5A-A7A6-A159FCBF8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3AEFC-D92D-4FBF-AC1F-9DA1308D2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321ED-B9E7-4A1C-BDB8-CDCAE1373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05708-4482-4697-B582-418389994EF5}" type="datetime">
              <a:rPr b="0" lang="sl-SI" sz="1200" spc="-1" strike="noStrike">
                <a:solidFill>
                  <a:srgbClr val="898989"/>
                </a:solidFill>
                <a:latin typeface="Calibri"/>
              </a:rPr>
              <a:t>28.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18A0E-F32A-4E0F-B052-A1DA61E57693}"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